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05E-3EF8-4B22-B00B-B16BFEF3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3BB-BF46-476C-9C38-A8AAAAA1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177-0AB1-41FC-9300-D3B1C0BF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477-E478-4D72-BE8B-3525EB6A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34EC-4C18-4DBC-A87E-99B48B76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4F71-DEB2-4384-8117-E351B9B1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DD79-9DB3-477C-94DC-4584DA98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7D3C-332F-4908-B2BF-8BB94AEE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7226-3C78-47A1-B1EE-D0FDCD8C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8222-6DDD-4B76-A9A3-061499E0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44CD-D770-49EF-B7C0-E20D7B8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4A5-892D-4248-8039-552F39C6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421B-85AD-4719-A6D7-29803B33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F415-0DF5-4135-A1E7-8065D79A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FE8D-1638-420B-8209-C3862A8D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C255-77F3-4AC7-B603-D9F2BD59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EE13-DB04-4FDD-A1F5-1F96940E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FAE-EEB9-4ACB-A4EB-0EA23A04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3E7-55F2-413C-A7C1-7208CB5F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975-25D6-4C5D-ACF4-359C7C8E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9AE-EEE9-460C-B899-ED15CA39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716-EE56-4D27-AD68-14E46391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88A-D3E5-49D7-B60B-1D813A25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DFA-2466-4C4D-8CCA-8BD38D9A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FE1F-CDDA-47EB-9793-42A7B84D20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12B9-1056-4FF7-9CA0-FCB72D73BC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40464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/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55640" y="1557360"/>
            <a:ext cx="6985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та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сональ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ьюте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4005360"/>
            <a:ext cx="324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: Файзуллин Ф. 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а 8 «Г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ерил: Петухова И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95008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003280" y="1773360"/>
            <a:ext cx="4140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они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Клавиа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кропроцесс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есткий ди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              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нипулятор «мыш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вуковые коло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д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115920"/>
            <a:ext cx="7345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ав персонального компьют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4608720" cy="273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3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25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35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8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8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6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9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03160"/>
                <a:tab algn="l" pos="1349280"/>
                <a:tab algn="l" pos="1617840"/>
                <a:tab algn="l" pos="1795320"/>
                <a:tab algn="l" pos="2063880"/>
                <a:tab algn="l" pos="2330280"/>
                <a:tab algn="l" pos="2776680"/>
                <a:tab algn="l" pos="304488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 служит для общения компьютера с пользователем. На нем компьютер отображает текст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нки. Изображение на мониторе состоит из отдельных маленьких точек, называемых пикс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21462600">
            <a:off x="1692000" y="404640"/>
            <a:ext cx="48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нит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39610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476360" y="5157360"/>
            <a:ext cx="544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виатура предназначена для в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и в память компьют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79640" y="333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000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кропроцессор – микросхема, выполняющая обработку всей информации в компьютере. Микропроцессор – «мозг» компью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63640" y="115920"/>
            <a:ext cx="53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97400" cy="3554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ий диск встроен внутрь системного блока и постоянно находится там. Жесткий диск представляет собой набор металлических или керамических дисков, покрытых магнитным сло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40464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сткий дис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274920" cy="4740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еративная память предназначена для хранения программ и данных, которые используются процессором в текущий момент. Содержимое оперативной памяти пропадает после выключения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 rot="358800">
            <a:off x="1044720" y="17640"/>
            <a:ext cx="6627600" cy="18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перативная пам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27640" y="2708280"/>
            <a:ext cx="4500360" cy="1863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19:21:38Z</dcterms:created>
  <dc:creator>comp28-11</dc:creator>
  <dc:description/>
  <dc:language>en-US</dc:language>
  <cp:lastModifiedBy>comp28-11</cp:lastModifiedBy>
  <dcterms:modified xsi:type="dcterms:W3CDTF">2006-12-31T19:38:01Z</dcterms:modified>
  <cp:revision>5</cp:revision>
  <dc:subject/>
  <dc:title>Слайд 1</dc:title>
</cp:coreProperties>
</file>